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we do not separate content feedback and process feedback, we are doing it here to focus your attention specifically on the difference between the two forms of descrip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your elbow partner about any processes you are not very clear ab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ctions are they meant to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F8C3-CD8E-4B50-B068-58451B563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FBC7-22A0-4BDD-AD08-2DC03D20A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7AE2-B012-4477-BF84-82DF77D76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7812-ED60-4442-B31F-16F8689DD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BB3F-DA38-4757-B44F-4191BCA897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27D1-D7ED-48A0-B4C1-AD4E33625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CC75-770B-4A26-8888-6D514D9A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7EF1-FEA6-4687-9CE8-FD86D8790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A4A1-A3C5-4215-9D18-8EDD67135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EB9A-0E7A-4C35-9571-5712DA569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87F8-56AC-4539-A37B-37425C37B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A3AA-4154-4CF6-9AD9-54A7FA230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C32D-7899-4EF2-8F7F-B25BC4C83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-685800"/>
            <a:ext cx="9144000" cy="7543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DFB3-472B-42E3-8FB5-044CD68C5D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3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Responding to Student Mathematical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9" name="Picture 11" descr="Screen shot 2011-08-08 at 3.55.10 PM.png"/>
          <p:cNvPicPr/>
          <p:nvPr/>
        </p:nvPicPr>
        <p:blipFill>
          <a:blip r:embed="rId3"/>
          <a:stretch/>
        </p:blipFill>
        <p:spPr>
          <a:xfrm>
            <a:off x="6419880" y="-685800"/>
            <a:ext cx="27241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1"/>
          <p:cNvGrpSpPr/>
          <p:nvPr/>
        </p:nvGrpSpPr>
        <p:grpSpPr>
          <a:xfrm>
            <a:off x="4952880" y="2514600"/>
            <a:ext cx="3175200" cy="3962520"/>
            <a:chOff x="4952880" y="2514600"/>
            <a:chExt cx="3175200" cy="3962520"/>
          </a:xfrm>
        </p:grpSpPr>
        <p:pic>
          <p:nvPicPr>
            <p:cNvPr id="51" name="Picture 10" descr="Screen shot 2011-08-08 at 3.51.55 PM.png"/>
            <p:cNvPicPr/>
            <p:nvPr/>
          </p:nvPicPr>
          <p:blipFill>
            <a:blip r:embed="rId4"/>
            <a:stretch/>
          </p:blipFill>
          <p:spPr>
            <a:xfrm>
              <a:off x="4952880" y="2514600"/>
              <a:ext cx="31752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Rectangle 9"/>
            <p:cNvSpPr/>
            <p:nvPr/>
          </p:nvSpPr>
          <p:spPr>
            <a:xfrm>
              <a:off x="7864560" y="2530080"/>
              <a:ext cx="228600" cy="25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at a table with another pair of 12:00 partners so there are 4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e the sampl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1 sample that the 4 of you want to tal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5193-8004-4BE8-B018-BA858EFA3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3886200" y="0"/>
            <a:ext cx="5257800" cy="2833560"/>
            <a:chOff x="3886200" y="0"/>
            <a:chExt cx="5257800" cy="2833560"/>
          </a:xfrm>
        </p:grpSpPr>
        <p:pic>
          <p:nvPicPr>
            <p:cNvPr id="120" name="Picture 5" descr="Screen shot 2011-08-09 at 5.33.34 AM.png"/>
            <p:cNvPicPr/>
            <p:nvPr/>
          </p:nvPicPr>
          <p:blipFill>
            <a:blip r:embed="rId1"/>
            <a:stretch/>
          </p:blipFill>
          <p:spPr>
            <a:xfrm>
              <a:off x="3886200" y="772200"/>
              <a:ext cx="1803240" cy="206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4"/>
            <p:cNvSpPr/>
            <p:nvPr/>
          </p:nvSpPr>
          <p:spPr>
            <a:xfrm>
              <a:off x="5486400" y="0"/>
              <a:ext cx="3657600" cy="1068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ind your 12:00 partner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ges in Development of Multiplicative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33C-35D4-4C0A-88D2-34CA943AA5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creen shot 2011-08-10 at 1.03.53 PM.png"/>
          <p:cNvPicPr/>
          <p:nvPr/>
        </p:nvPicPr>
        <p:blipFill>
          <a:blip r:embed="rId1"/>
          <a:stretch/>
        </p:blipFill>
        <p:spPr>
          <a:xfrm>
            <a:off x="380880" y="1600200"/>
            <a:ext cx="8077320" cy="2646360"/>
          </a:xfrm>
          <a:prstGeom prst="rect">
            <a:avLst/>
          </a:prstGeom>
          <a:ln w="0">
            <a:noFill/>
          </a:ln>
        </p:spPr>
      </p:pic>
      <p:pic>
        <p:nvPicPr>
          <p:cNvPr id="125" name="Content Placeholder 4" descr="Screen shot 2011-08-09 at 5.41.55 AM.png"/>
          <p:cNvPicPr/>
          <p:nvPr/>
        </p:nvPicPr>
        <p:blipFill>
          <a:blip r:embed="rId2"/>
          <a:srcRect l="0" t="134" r="0" b="134"/>
          <a:stretch/>
        </p:blipFill>
        <p:spPr>
          <a:xfrm>
            <a:off x="380880" y="3886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(in the moment) to Mathematical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tages of development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(as a table of 4) where your                     work sample “fits” the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1 student sample write                descriptive feedback on a BLUE                           post-it note focusing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hematical thinking you are se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descriptive feedback on the wall on the sample of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73A2-8FBF-4BDF-9DBD-334D9F2C6B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creen shot 2011-08-09 at 5.48.31 AM.png"/>
          <p:cNvPicPr/>
          <p:nvPr/>
        </p:nvPicPr>
        <p:blipFill>
          <a:blip r:embed="rId1"/>
          <a:srcRect l="5961" t="6188" r="0" b="4128"/>
          <a:stretch/>
        </p:blipFill>
        <p:spPr>
          <a:xfrm>
            <a:off x="6553080" y="2438280"/>
            <a:ext cx="25909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 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lean up your tabl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ny student samples not used, in the middl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break – please wander through th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escriptive Feedback Galle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ready to comment on what you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358-3626-4ACA-90F0-E0CCA266BE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4" name="Content Placeholder 4" descr="Screen shot 2011-08-09 at 5.59.50 AM.png"/>
          <p:cNvPicPr/>
          <p:nvPr/>
        </p:nvPicPr>
        <p:blipFill>
          <a:blip r:embed="rId1"/>
          <a:srcRect l="1034" t="1447" r="1034" b="0"/>
          <a:stretch/>
        </p:blipFill>
        <p:spPr>
          <a:xfrm>
            <a:off x="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20AF-E13B-44D6-AE1D-C73D691D4D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Screen shot 2011-08-10 at 5.01.45 PM.png"/>
          <p:cNvPicPr/>
          <p:nvPr/>
        </p:nvPicPr>
        <p:blipFill>
          <a:blip r:embed="rId2"/>
          <a:stretch/>
        </p:blipFill>
        <p:spPr>
          <a:xfrm>
            <a:off x="3962520" y="3124080"/>
            <a:ext cx="525132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Title 1"/>
          <p:cNvSpPr/>
          <p:nvPr/>
        </p:nvSpPr>
        <p:spPr>
          <a:xfrm>
            <a:off x="533520" y="1752480"/>
            <a:ext cx="8229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marL="39600" indent="-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Gallery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en you return from break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39E-5037-41F9-8B65-1C7D2AE63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creen shot 2011-08-10 at 5.01.45 PM.png"/>
          <p:cNvPicPr/>
          <p:nvPr/>
        </p:nvPicPr>
        <p:blipFill>
          <a:blip r:embed="rId1"/>
          <a:stretch/>
        </p:blipFill>
        <p:spPr>
          <a:xfrm>
            <a:off x="990720" y="1752480"/>
            <a:ext cx="6046560" cy="2895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191120" y="4114800"/>
            <a:ext cx="365760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down with your 3:00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…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8F0B-0CB9-4FE0-9B15-FCDC9730E7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22096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105520" y="22096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1055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2193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7aa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105520" y="45720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990720" y="45720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lecting too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3124080" y="13716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00"/>
                            </p:stCondLst>
                            <p:childTnLst>
                              <p:par>
                                <p:cTn id="1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100"/>
                            </p:stCondLst>
                            <p:childTnLst>
                              <p:par>
                                <p:cTn id="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100"/>
                            </p:stCondLst>
                            <p:childTnLst>
                              <p:par>
                                <p:cTn id="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has one card to describe each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ample questions and sample prompts fo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C83-8890-4126-8E0F-9121F87508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Screen shot 2011-08-10 at 4.30.01 PM.png"/>
          <p:cNvPicPr/>
          <p:nvPr/>
        </p:nvPicPr>
        <p:blipFill>
          <a:blip r:embed="rId1"/>
          <a:stretch/>
        </p:blipFill>
        <p:spPr>
          <a:xfrm>
            <a:off x="6603840" y="0"/>
            <a:ext cx="2540160" cy="17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6" name="Content Placeholder 4" descr="Screen shot 2011-08-09 at 5.25.21 AM.png"/>
          <p:cNvPicPr/>
          <p:nvPr/>
        </p:nvPicPr>
        <p:blipFill>
          <a:blip r:embed="rId1"/>
          <a:srcRect l="-10789" t="0" r="-10789" b="0"/>
          <a:stretch/>
        </p:blipFill>
        <p:spPr>
          <a:xfrm>
            <a:off x="-838080" y="1600200"/>
            <a:ext cx="10896480" cy="6084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798F-97CA-4F10-9B8B-8A296E9996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57200" y="510372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ELLOW post-it notes to write descriptive feedback to the student about the process of representing and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notes on the posted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E15C-D997-4661-AB4D-171948CEED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creen shot 2011-08-10 at 5.18.58 PM.png"/>
          <p:cNvPicPr/>
          <p:nvPr/>
        </p:nvPicPr>
        <p:blipFill>
          <a:blip r:embed="rId1"/>
          <a:stretch/>
        </p:blipFill>
        <p:spPr>
          <a:xfrm>
            <a:off x="5619600" y="2209680"/>
            <a:ext cx="3524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rtners Around the Clo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19F7-3524-4E44-B232-9BAD8BF4C9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380880" y="13716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time to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r share a 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st write your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play this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Screen shot 2011-08-08 at 4.12.33 PM.png"/>
          <p:cNvPicPr/>
          <p:nvPr/>
        </p:nvPicPr>
        <p:blipFill>
          <a:blip r:embed="rId1"/>
          <a:stretch/>
        </p:blipFill>
        <p:spPr>
          <a:xfrm>
            <a:off x="5029200" y="1371600"/>
            <a:ext cx="41148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Content Placeholder 4" descr="Screen shot 2011-08-09 at 6.00.36 AM.png"/>
          <p:cNvPicPr/>
          <p:nvPr/>
        </p:nvPicPr>
        <p:blipFill>
          <a:blip r:embed="rId1"/>
          <a:srcRect l="1594" t="2903" r="5744" b="0"/>
          <a:stretch/>
        </p:blipFill>
        <p:spPr>
          <a:xfrm>
            <a:off x="2209680" y="13716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D662-9B51-4B36-9E64-0255352886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 rot="19137600">
            <a:off x="2597760" y="3225960"/>
            <a:ext cx="4419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9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cards and Tongue depress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nd talk at your table about how effective the prompts and questions would they be with you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e prompts appropriate for K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s are for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13F-EBB7-41E8-916A-74A4DBD021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creen shot 2011-08-10 at 4.30.01 PM.png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461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Screen shot 2011-08-10 at 4.21.18 PM.png"/>
          <p:cNvPicPr/>
          <p:nvPr/>
        </p:nvPicPr>
        <p:blipFill>
          <a:blip r:embed="rId2"/>
          <a:stretch/>
        </p:blipFill>
        <p:spPr>
          <a:xfrm>
            <a:off x="5257800" y="4419720"/>
            <a:ext cx="23623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what you learn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comment on content an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A69-3D41-464C-9603-560010A626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Screen shot 2011-08-10 at 5.21.05 PM.png"/>
          <p:cNvPicPr/>
          <p:nvPr/>
        </p:nvPicPr>
        <p:blipFill>
          <a:blip r:embed="rId1"/>
          <a:stretch/>
        </p:blipFill>
        <p:spPr>
          <a:xfrm>
            <a:off x="5883120" y="1295280"/>
            <a:ext cx="32608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rtners Around the Clo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BEE-94C5-4745-BDD9-D9E5A09B54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11430000" y="15238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riend’s name and 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Screen shot 2011-08-10 at 12.54.36 PM.png"/>
          <p:cNvPicPr/>
          <p:nvPr/>
        </p:nvPicPr>
        <p:blipFill>
          <a:blip r:embed="rId1"/>
          <a:srcRect l="0" t="0" r="0" b="1563"/>
          <a:stretch/>
        </p:blipFill>
        <p:spPr>
          <a:xfrm>
            <a:off x="1457280" y="1141560"/>
            <a:ext cx="6010200" cy="48020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20"/>
          <p:cNvGrpSpPr/>
          <p:nvPr/>
        </p:nvGrpSpPr>
        <p:grpSpPr>
          <a:xfrm>
            <a:off x="2895480" y="2133720"/>
            <a:ext cx="3124440" cy="3276360"/>
            <a:chOff x="2895480" y="2133720"/>
            <a:chExt cx="3124440" cy="3276360"/>
          </a:xfrm>
        </p:grpSpPr>
        <p:sp>
          <p:nvSpPr>
            <p:cNvPr id="62" name="Oval 7"/>
            <p:cNvSpPr/>
            <p:nvPr/>
          </p:nvSpPr>
          <p:spPr>
            <a:xfrm>
              <a:off x="4114800" y="21337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2895480" y="320040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4114800" y="464832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5257800" y="3200400"/>
              <a:ext cx="7621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1"/>
          <p:cNvGrpSpPr/>
          <p:nvPr/>
        </p:nvGrpSpPr>
        <p:grpSpPr>
          <a:xfrm>
            <a:off x="4419720" y="990720"/>
            <a:ext cx="4724280" cy="3577320"/>
            <a:chOff x="4419720" y="990720"/>
            <a:chExt cx="4724280" cy="3577320"/>
          </a:xfrm>
        </p:grpSpPr>
        <p:sp>
          <p:nvSpPr>
            <p:cNvPr id="67" name="TextBox 17"/>
            <p:cNvSpPr/>
            <p:nvPr/>
          </p:nvSpPr>
          <p:spPr>
            <a:xfrm>
              <a:off x="6095880" y="3864240"/>
              <a:ext cx="2666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friend’s name and your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6"/>
            <p:cNvSpPr/>
            <p:nvPr/>
          </p:nvSpPr>
          <p:spPr>
            <a:xfrm>
              <a:off x="4419720" y="990720"/>
              <a:ext cx="4724280" cy="825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riend’s name on your clock AND your name on her cl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5"/>
          <p:cNvSpPr/>
          <p:nvPr/>
        </p:nvSpPr>
        <p:spPr>
          <a:xfrm>
            <a:off x="228600" y="1828800"/>
            <a:ext cx="44956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648320" y="4724280"/>
            <a:ext cx="44956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0" y="4800600"/>
            <a:ext cx="30481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 need the names of 4 different people on your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486400" y="-152280"/>
            <a:ext cx="3657600" cy="2722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nderstand the difference                                     between additive thinking and                            multiplicative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use a Frayer model to define multiplicative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examine student work and match it to the stages of multiplicative thinking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rite descriptive feedback on th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iscuss the processes and how they engage students in mathematical th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come familiar with the DI process cards and re-write prompts appropriate for students in K-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AC8-92E5-4972-B8A1-097D3E16ED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ad with your Elbow Part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7" name="Content Placeholder 4" descr="Screen shot 2011-08-08 at 4.44.42 PM.png"/>
          <p:cNvPicPr/>
          <p:nvPr/>
        </p:nvPicPr>
        <p:blipFill>
          <a:blip r:embed="rId1"/>
          <a:srcRect l="-6144" t="0" r="-6144" b="0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A9F-3158-43DE-A114-4C129DD2A5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0" name="Content Placeholder 4" descr="Screen shot 2011-08-08 at 3.47.29 PM.png"/>
          <p:cNvPicPr/>
          <p:nvPr/>
        </p:nvPicPr>
        <p:blipFill>
          <a:blip r:embed="rId1"/>
          <a:srcRect l="0" t="-5234" r="0" b="-5234"/>
          <a:stretch/>
        </p:blipFill>
        <p:spPr>
          <a:xfrm>
            <a:off x="-158760" y="685800"/>
            <a:ext cx="930276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264-430A-4EA0-92EE-B5F30B4A30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809880" y="3276720"/>
            <a:ext cx="15242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/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7"/>
          <p:cNvGrpSpPr/>
          <p:nvPr/>
        </p:nvGrpSpPr>
        <p:grpSpPr>
          <a:xfrm>
            <a:off x="457200" y="1371240"/>
            <a:ext cx="8001000" cy="5258520"/>
            <a:chOff x="457200" y="1371240"/>
            <a:chExt cx="8001000" cy="5258520"/>
          </a:xfrm>
        </p:grpSpPr>
        <p:sp>
          <p:nvSpPr>
            <p:cNvPr id="84" name="Rectangle 6"/>
            <p:cNvSpPr/>
            <p:nvPr/>
          </p:nvSpPr>
          <p:spPr>
            <a:xfrm>
              <a:off x="457200" y="1600200"/>
              <a:ext cx="228600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Defini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5867640" y="160020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Characteris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5867640" y="396252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Non-Ex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457200" y="3962520"/>
              <a:ext cx="25905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Examp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Straight Arrow Connector 11"/>
            <p:cNvCxnSpPr/>
            <p:nvPr/>
          </p:nvCxnSpPr>
          <p:spPr>
            <a:xfrm>
              <a:off x="761400" y="1371240"/>
              <a:ext cx="533880" cy="2293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89" name="Straight Arrow Connector 12"/>
            <p:cNvCxnSpPr/>
            <p:nvPr/>
          </p:nvCxnSpPr>
          <p:spPr>
            <a:xfrm flipH="1">
              <a:off x="7543440" y="137160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0" name="Straight Arrow Connector 14"/>
            <p:cNvCxnSpPr/>
            <p:nvPr/>
          </p:nvCxnSpPr>
          <p:spPr>
            <a:xfrm flipH="1">
              <a:off x="7543440" y="380988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1" name="Straight Arrow Connector 15"/>
            <p:cNvCxnSpPr/>
            <p:nvPr/>
          </p:nvCxnSpPr>
          <p:spPr>
            <a:xfrm>
              <a:off x="761400" y="3885840"/>
              <a:ext cx="533880" cy="2293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  <p:cxnSp>
          <p:nvCxnSpPr>
            <p:cNvPr id="92" name="Straight Arrow Connector 16"/>
            <p:cNvCxnSpPr/>
            <p:nvPr/>
          </p:nvCxnSpPr>
          <p:spPr>
            <a:xfrm flipH="1">
              <a:off x="7543440" y="6324840"/>
              <a:ext cx="457920" cy="305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Content Placeholder 4" descr="Screen shot 2011-08-08 at 3.47.29 PM.png"/>
          <p:cNvPicPr/>
          <p:nvPr/>
        </p:nvPicPr>
        <p:blipFill>
          <a:blip r:embed="rId1"/>
          <a:srcRect l="0" t="-5234" r="0" b="-5234"/>
          <a:stretch/>
        </p:blipFill>
        <p:spPr>
          <a:xfrm>
            <a:off x="-158760" y="685800"/>
            <a:ext cx="930276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9E1-7B48-4144-AA03-41B9A12D8F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886200" y="3179880"/>
            <a:ext cx="1447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5720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art of a whole, a set, or a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4572000" y="129528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numbers written one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number numerator tells how many parts are being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number denominator tells how many parts in the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5257800" y="4114800"/>
            <a:ext cx="2971800" cy="1587960"/>
            <a:chOff x="5257800" y="4114800"/>
            <a:chExt cx="2971800" cy="1587960"/>
          </a:xfrm>
        </p:grpSpPr>
        <p:sp>
          <p:nvSpPr>
            <p:cNvPr id="100" name="TextBox 12"/>
            <p:cNvSpPr/>
            <p:nvPr/>
          </p:nvSpPr>
          <p:spPr>
            <a:xfrm>
              <a:off x="5790960" y="41148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75438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4"/>
            <p:cNvSpPr/>
            <p:nvPr/>
          </p:nvSpPr>
          <p:spPr>
            <a:xfrm>
              <a:off x="5257800" y="5182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 12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457200" y="3962520"/>
            <a:ext cx="3276720" cy="2166480"/>
            <a:chOff x="457200" y="3962520"/>
            <a:chExt cx="3276720" cy="2166480"/>
          </a:xfrm>
        </p:grpSpPr>
        <p:pic>
          <p:nvPicPr>
            <p:cNvPr id="104" name="Picture 10" descr="Screen shot 2011-08-08 at 4.29.46 PM.png"/>
            <p:cNvPicPr/>
            <p:nvPr/>
          </p:nvPicPr>
          <p:blipFill>
            <a:blip r:embed="rId2"/>
            <a:stretch/>
          </p:blipFill>
          <p:spPr>
            <a:xfrm>
              <a:off x="457200" y="3962520"/>
              <a:ext cx="1230480" cy="12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5"/>
            <p:cNvSpPr/>
            <p:nvPr/>
          </p:nvSpPr>
          <p:spPr>
            <a:xfrm>
              <a:off x="289584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6"/>
            <p:cNvSpPr/>
            <p:nvPr/>
          </p:nvSpPr>
          <p:spPr>
            <a:xfrm>
              <a:off x="2057400" y="518184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2667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ontent Placeholder 6" descr="Screen shot 2011-08-09 at 11.31.12 AM.png"/>
          <p:cNvPicPr/>
          <p:nvPr/>
        </p:nvPicPr>
        <p:blipFill>
          <a:blip r:embed="rId1"/>
          <a:srcRect l="-2954" t="0" r="-2954" b="0"/>
          <a:stretch/>
        </p:blipFill>
        <p:spPr>
          <a:xfrm>
            <a:off x="0" y="1308240"/>
            <a:ext cx="8686800" cy="5549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1636-A595-41C0-88E7-A16A07D71C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685800" y="1981080"/>
            <a:ext cx="3657600" cy="1068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e with your 6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2" name="Content Placeholder 4" descr="Screen shot 2011-08-09 at 5.25.21 AM.png"/>
          <p:cNvPicPr/>
          <p:nvPr/>
        </p:nvPicPr>
        <p:blipFill>
          <a:blip r:embed="rId1"/>
          <a:srcRect l="-10789" t="0" r="-10789" b="0"/>
          <a:stretch/>
        </p:blipFill>
        <p:spPr>
          <a:xfrm>
            <a:off x="-838080" y="1600200"/>
            <a:ext cx="10896480" cy="60847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31D-269E-465A-9C8B-EEBE7F7CB5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7200" y="510372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8:43:25Z</dcterms:created>
  <dc:creator>CSC</dc:creator>
  <dc:description/>
  <cp:keywords/>
  <dc:language>en-US</dc:language>
  <cp:lastModifiedBy>Kathy Kubota-Zarivnij</cp:lastModifiedBy>
  <dcterms:modified xsi:type="dcterms:W3CDTF">2011-08-16T21:35:39Z</dcterms:modified>
  <cp:revision>36</cp:revision>
  <dc:subject/>
  <dc:title>&lt;Title&gt;</dc:title>
</cp:coreProperties>
</file>